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821F-01F7-45C9-B687-4D15FC782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F6BF-EBFC-4356-AC23-03AB15577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E182-7238-4119-9490-45466BA5A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C759-4BBC-4AEA-8CFC-57E73B363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A713A-2896-42BC-8F6C-446637119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7D135-7B0B-4151-9A44-518CB9BD6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4B541-C554-4A08-B58A-07BFEE6AB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57E47-3265-4807-8E52-C891F500D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52272-7A6A-4A33-9DF9-729342936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78C7F-4211-4A1C-8854-565BF4482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29237-44D3-444F-9F9D-337558387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3691-D725-48A0-A898-E2651F2CF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CA67A-E764-4535-A3F6-8BF27377C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57673-3CF6-4A8B-8BC3-9DA0DD8A6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F994F-25C9-44DA-971F-FD49A1853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26A8D-A020-464A-AC0A-6D4B6032A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ECA10-A2D3-4BE7-A3F3-CCADA34C6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EBD2-82BC-4D5A-9AEC-AAF04E9C6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D69A-F19F-4D1D-8F13-506D2B62E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0027-75CD-4EB9-8387-96822CBC8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FB9C-DBA2-4E8E-B05C-1C119F84B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EDD4-038C-4644-BA6B-C270ECC3D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AEEF-2E51-4C49-9769-3B6C7CA78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6225-E0F5-40EF-B887-B8D5DDC79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6600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33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840" y="4054320"/>
                <a:ext cx="1833480" cy="1664640"/>
                <a:chOff x="852840" y="4054320"/>
                <a:chExt cx="1833480" cy="166464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5040" y="3942720"/>
                  <a:ext cx="475560" cy="12211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6040" y="4975200"/>
                  <a:ext cx="109800" cy="50112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DABF0-7A32-4727-93CF-9558F752F77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920" y="63000"/>
              <a:ext cx="3623040" cy="6129720"/>
              <a:chOff x="5407920" y="63000"/>
              <a:chExt cx="3623040" cy="612972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1520" y="348120"/>
                <a:ext cx="2116800" cy="235584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040" y="1959840"/>
                <a:ext cx="906840" cy="84240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4160" y="2591640"/>
                <a:ext cx="439920" cy="39492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1840" y="675000"/>
                <a:ext cx="388800" cy="55116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2840" y="2646000"/>
                <a:ext cx="163440" cy="33156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38800" y="1244160"/>
                <a:ext cx="190440" cy="1425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8200" y="2931840"/>
                <a:ext cx="523800" cy="326664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6600" y="305640"/>
              <a:ext cx="888120" cy="826200"/>
              <a:chOff x="5646600" y="305640"/>
              <a:chExt cx="888120" cy="82620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8560" y="802800"/>
                <a:ext cx="17604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7080" y="478800"/>
                <a:ext cx="30132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8520" y="403920"/>
                <a:ext cx="31500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2640"/>
              <a:ext cx="1062360" cy="840600"/>
              <a:chOff x="954000" y="5282640"/>
              <a:chExt cx="1062360" cy="84060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8120" y="5546520"/>
                <a:ext cx="251640" cy="3027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5480" y="5765760"/>
                <a:ext cx="430560" cy="251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720" y="5407200"/>
                <a:ext cx="450000" cy="128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F07B2-C47D-49A4-A962-E3A1583C58A1}" type="slidenum">
              <a:rPr b="0" lang="en-US" sz="1400" spc="-1" strike="noStrike">
                <a:solidFill>
                  <a:srgbClr val="00006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701200" cy="96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2e"/>
                </a:solidFill>
                <a:latin typeface="Verdana"/>
              </a:rPr>
              <a:t>Me llamo ______________ Clase 801</a:t>
            </a:r>
            <a:br>
              <a:rPr sz="3200"/>
            </a:br>
            <a:r>
              <a:rPr b="0" lang="en-US" sz="3200" spc="-1" strike="noStrike">
                <a:solidFill>
                  <a:srgbClr val="00002e"/>
                </a:solidFill>
                <a:latin typeface="Verdana"/>
              </a:rPr>
              <a:t>La fecha es el 24 de marzo del 2017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Verdana"/>
              </a:rPr>
              <a:t>Proposito # 63: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 ¿Fuiste al cine o el museo durante el verano?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b050"/>
                </a:solidFill>
                <a:latin typeface="Verdana"/>
              </a:rPr>
              <a:t>L.O: to learn music vocabulary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Verdana"/>
              </a:rPr>
              <a:t>Actividad Inicial: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Escribe 2 oraciones originales con cada verbo en el preterito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Ir (to go)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Perder (to lose/miss) *</a:t>
            </a:r>
            <a:r>
              <a:rPr b="0" i="1" lang="en-US" sz="2000" spc="-1" strike="noStrike">
                <a:solidFill>
                  <a:srgbClr val="000066"/>
                </a:solidFill>
                <a:latin typeface="Verdana"/>
              </a:rPr>
              <a:t>same endings as “dar”*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Dar (to give)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Salir (to go out) 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*</a:t>
            </a:r>
            <a:r>
              <a:rPr b="0" i="1" lang="en-US" sz="2000" spc="-1" strike="noStrike">
                <a:solidFill>
                  <a:srgbClr val="000066"/>
                </a:solidFill>
                <a:latin typeface="Verdana"/>
              </a:rPr>
              <a:t>same endings as “dar”*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Ser (to be)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5080" y="0"/>
            <a:ext cx="8243640" cy="88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cc"/>
                </a:solidFill>
                <a:latin typeface="Verdana"/>
              </a:rPr>
              <a:t>Vocabulario Nuevo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Los instrumentos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71" name="Picture 4" descr="ANd9GcR4YWqLAHtajCRUMgO2wsBjxT9EePj_4yYM1MC8zcHWbnBI3pdmRg"/>
          <p:cNvPicPr/>
          <p:nvPr/>
        </p:nvPicPr>
        <p:blipFill>
          <a:blip r:embed="rId1"/>
          <a:stretch/>
        </p:blipFill>
        <p:spPr>
          <a:xfrm>
            <a:off x="0" y="1371600"/>
            <a:ext cx="2048040" cy="22287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ANd9GcSDlpOgMYtiwc-LPu6dtYJ7-dAABWgJC347yf1xWFln6mrOdwMU"/>
          <p:cNvPicPr/>
          <p:nvPr/>
        </p:nvPicPr>
        <p:blipFill>
          <a:blip r:embed="rId2"/>
          <a:stretch/>
        </p:blipFill>
        <p:spPr>
          <a:xfrm>
            <a:off x="4648320" y="1371600"/>
            <a:ext cx="1942920" cy="1943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ANd9GcS9kwQbGG517aVNqNYbFEO7jZuuYiXc_lchl9ggW9G4oqdENQh_"/>
          <p:cNvPicPr/>
          <p:nvPr/>
        </p:nvPicPr>
        <p:blipFill>
          <a:blip r:embed="rId3"/>
          <a:stretch/>
        </p:blipFill>
        <p:spPr>
          <a:xfrm>
            <a:off x="6657840" y="1371600"/>
            <a:ext cx="2409840" cy="18954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ANd9GcSxwEl48P3QcmSrpHYMyTxmigQAR3u0fHPDGej0749l-dnKstvf9g"/>
          <p:cNvPicPr/>
          <p:nvPr/>
        </p:nvPicPr>
        <p:blipFill>
          <a:blip r:embed="rId4"/>
          <a:stretch/>
        </p:blipFill>
        <p:spPr>
          <a:xfrm>
            <a:off x="2133720" y="1447920"/>
            <a:ext cx="2466720" cy="18572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8" descr="ANd9GcQ695BGTWWx4kJ985EMNJINADEYnCuekMismvhwEa18mt0cmCke"/>
          <p:cNvPicPr/>
          <p:nvPr/>
        </p:nvPicPr>
        <p:blipFill>
          <a:blip r:embed="rId5"/>
          <a:stretch/>
        </p:blipFill>
        <p:spPr>
          <a:xfrm>
            <a:off x="4648320" y="411480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9" descr="ANd9GcS2BTiaOfT540aEzc_jPyeCoYaDfbyKcWE9z5dj5QMtieDc_8w3"/>
          <p:cNvPicPr/>
          <p:nvPr/>
        </p:nvPicPr>
        <p:blipFill>
          <a:blip r:embed="rId6"/>
          <a:stretch/>
        </p:blipFill>
        <p:spPr>
          <a:xfrm>
            <a:off x="6934320" y="4191120"/>
            <a:ext cx="2033640" cy="16286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0" descr="ANd9GcSrABpGj1kkB6bdf_Q9k1BAfPKfxmv7XvwHPtso5t9E9Qaa6mRh"/>
          <p:cNvPicPr/>
          <p:nvPr/>
        </p:nvPicPr>
        <p:blipFill>
          <a:blip r:embed="rId7"/>
          <a:stretch/>
        </p:blipFill>
        <p:spPr>
          <a:xfrm>
            <a:off x="2419200" y="3800520"/>
            <a:ext cx="1924200" cy="237168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11"/>
          <p:cNvSpPr/>
          <p:nvPr/>
        </p:nvSpPr>
        <p:spPr>
          <a:xfrm>
            <a:off x="311760" y="3429000"/>
            <a:ext cx="1383120" cy="459720"/>
          </a:xfrm>
          <a:prstGeom prst="rect">
            <a:avLst/>
          </a:prstGeom>
          <a:solidFill>
            <a:srgbClr val="e1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El piano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9" name="Text Box 12"/>
          <p:cNvSpPr/>
          <p:nvPr/>
        </p:nvSpPr>
        <p:spPr>
          <a:xfrm>
            <a:off x="2501280" y="3276720"/>
            <a:ext cx="1364760" cy="459720"/>
          </a:xfrm>
          <a:prstGeom prst="rect">
            <a:avLst/>
          </a:prstGeom>
          <a:solidFill>
            <a:srgbClr val="e1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El violín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0" name="Text Box 13"/>
          <p:cNvSpPr/>
          <p:nvPr/>
        </p:nvSpPr>
        <p:spPr>
          <a:xfrm>
            <a:off x="4664520" y="3276720"/>
            <a:ext cx="1881360" cy="459720"/>
          </a:xfrm>
          <a:prstGeom prst="rect">
            <a:avLst/>
          </a:prstGeom>
          <a:solidFill>
            <a:srgbClr val="e1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La guitarra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1" name="Text Box 14"/>
          <p:cNvSpPr/>
          <p:nvPr/>
        </p:nvSpPr>
        <p:spPr>
          <a:xfrm>
            <a:off x="6897960" y="3276720"/>
            <a:ext cx="1954800" cy="459720"/>
          </a:xfrm>
          <a:prstGeom prst="rect">
            <a:avLst/>
          </a:prstGeom>
          <a:solidFill>
            <a:srgbClr val="e1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El acordeón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2" name="Text Box 15"/>
          <p:cNvSpPr/>
          <p:nvPr/>
        </p:nvSpPr>
        <p:spPr>
          <a:xfrm>
            <a:off x="141840" y="5867280"/>
            <a:ext cx="2024640" cy="459720"/>
          </a:xfrm>
          <a:prstGeom prst="rect">
            <a:avLst/>
          </a:prstGeom>
          <a:solidFill>
            <a:srgbClr val="e1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Las batería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83" name="Picture 16" descr="ANd9GcSAMCAD7QdFwU0Q-WzIw9HNKxrn4AycH4gyGn78e_GEhtPWJvDKQw"/>
          <p:cNvPicPr/>
          <p:nvPr/>
        </p:nvPicPr>
        <p:blipFill>
          <a:blip r:embed="rId8"/>
          <a:stretch/>
        </p:blipFill>
        <p:spPr>
          <a:xfrm>
            <a:off x="0" y="3886200"/>
            <a:ext cx="2276640" cy="200988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17"/>
          <p:cNvSpPr/>
          <p:nvPr/>
        </p:nvSpPr>
        <p:spPr>
          <a:xfrm>
            <a:off x="2848320" y="6172200"/>
            <a:ext cx="1183680" cy="459720"/>
          </a:xfrm>
          <a:prstGeom prst="rect">
            <a:avLst/>
          </a:prstGeom>
          <a:solidFill>
            <a:srgbClr val="e1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El bajo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5" name="Text Box 18"/>
          <p:cNvSpPr/>
          <p:nvPr/>
        </p:nvSpPr>
        <p:spPr>
          <a:xfrm>
            <a:off x="4670640" y="6019920"/>
            <a:ext cx="2066040" cy="459720"/>
          </a:xfrm>
          <a:prstGeom prst="rect">
            <a:avLst/>
          </a:prstGeom>
          <a:solidFill>
            <a:srgbClr val="e1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La trompeta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6" name="Text Box 19"/>
          <p:cNvSpPr/>
          <p:nvPr/>
        </p:nvSpPr>
        <p:spPr>
          <a:xfrm>
            <a:off x="6991920" y="5867280"/>
            <a:ext cx="1730520" cy="459720"/>
          </a:xfrm>
          <a:prstGeom prst="rect">
            <a:avLst/>
          </a:prstGeom>
          <a:solidFill>
            <a:srgbClr val="e1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El saxofón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7" name="Text Box 20"/>
          <p:cNvSpPr/>
          <p:nvPr/>
        </p:nvSpPr>
        <p:spPr>
          <a:xfrm>
            <a:off x="4514040" y="838080"/>
            <a:ext cx="2692440" cy="459720"/>
          </a:xfrm>
          <a:prstGeom prst="rect">
            <a:avLst/>
          </a:prstGeom>
          <a:solidFill>
            <a:srgbClr val="e1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The instrument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19120" y="0"/>
            <a:ext cx="8244000" cy="88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cc"/>
                </a:solidFill>
                <a:latin typeface="Verdana"/>
              </a:rPr>
              <a:t>Ejercicios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90720" y="125892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Completa </a:t>
            </a:r>
            <a:r>
              <a:rPr b="0" lang="en-US" sz="2800" spc="-1" strike="noStrike" u="sng">
                <a:solidFill>
                  <a:srgbClr val="000066"/>
                </a:solidFill>
                <a:uFillTx/>
                <a:latin typeface="Verdana"/>
              </a:rPr>
              <a:t>Ejercicio 3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 p. 268; en oraciones completas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Completa </a:t>
            </a:r>
            <a:r>
              <a:rPr b="0" lang="en-US" sz="2800" spc="-1" strike="noStrike" u="sng">
                <a:solidFill>
                  <a:srgbClr val="000066"/>
                </a:solidFill>
                <a:uFillTx/>
                <a:latin typeface="Verdana"/>
              </a:rPr>
              <a:t>Ejercicio 4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 p. 268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TEXTO: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Copia y completa </a:t>
            </a:r>
            <a:r>
              <a:rPr b="0" lang="en-US" sz="2800" spc="-1" strike="noStrike" u="sng">
                <a:solidFill>
                  <a:srgbClr val="000066"/>
                </a:solidFill>
                <a:uFillTx/>
                <a:latin typeface="Verdana"/>
              </a:rPr>
              <a:t>Ejercicio 5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 p. 269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533520" y="2895480"/>
            <a:ext cx="824364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cc"/>
                </a:solidFill>
                <a:latin typeface="Verdana"/>
              </a:rPr>
              <a:t>Tarea # 63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8T22:23:17Z</dcterms:created>
  <dc:creator>Helen Zumaeta</dc:creator>
  <dc:description/>
  <dc:language>en-US</dc:language>
  <cp:lastModifiedBy>Helen Zumaeta</cp:lastModifiedBy>
  <cp:lastPrinted>2016-03-31T13:22:21Z</cp:lastPrinted>
  <dcterms:modified xsi:type="dcterms:W3CDTF">2017-03-24T15:16:45Z</dcterms:modified>
  <cp:revision>22</cp:revision>
  <dc:subject/>
  <dc:title>Me llamo ______________ Clase 8im La fecha es el 15 de noviembre del 2012</dc:title>
</cp:coreProperties>
</file>